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DBF-6986-4E3B-844C-385DA0D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3C7-0FFA-43F1-BC5C-3A7027B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C4A-6501-4C4E-8A40-0654CB1E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E6B-8D1D-448A-8A1A-31C4C806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94C-3634-4A2B-868B-92FC2BD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B86-ABD2-4F0E-B1A7-B36E3B6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216-174B-4D38-ADE8-5C9D9E7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0ED-81AE-4E65-B39A-5D495F28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0FA-B9C8-45B6-9325-821D9FFE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4A7-53FC-44B4-9F0E-630B6AF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75D-5D92-473A-B167-5F4210F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3C3-4CF5-4DA2-809A-CB32BD2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720-7FBA-4939-8221-1D6EC393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K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job with this…lots of qualit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thought put into this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ll-written.  Some grammar and spelling issue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 too much dependence on the powerpoint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2:47:50Z</dcterms:created>
  <dc:creator>nbdoe</dc:creator>
  <dc:description/>
  <dc:language>en-US</dc:language>
  <cp:lastModifiedBy>nbdoe</cp:lastModifiedBy>
  <dcterms:modified xsi:type="dcterms:W3CDTF">2007-05-11T12:47:56Z</dcterms:modified>
  <cp:revision>1</cp:revision>
  <dc:subject/>
  <dc:title>Election 2007</dc:title>
</cp:coreProperties>
</file>